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770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7FB-2B09-4B79-BB10-43AB3D26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C72E-1FFA-42E4-B215-930AD44C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E20-515C-44D0-A4C1-508D692D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94E-58C6-48BF-9EBE-AE1949E6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174-0178-49A6-AA7C-C842DBBE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223-E050-447A-AF40-28EABCE1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EF2-0E6C-4CE1-BA47-C686285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930-8E59-48CC-9DD4-805EBB6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2F8-1595-4521-80E8-16580F56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E8F-0955-42FD-B4FF-30781B3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E01-6F16-4C71-91F7-C7000C4B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A7CB-D6FB-4D71-AD0A-D1E2BD5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8835-5C60-4462-B335-76B22CF0C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7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nkerToy"/>
              </a:rPr>
              <a:t>Dangoswch llinell syth gyda graddiant positif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77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nkerToy"/>
              </a:rPr>
              <a:t>Dangoswch llinell syth gyda graddiant negatif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Dangoswch ax</a:t>
            </a:r>
            <a:r>
              <a:rPr b="0" lang="en-GB" sz="10600" spc="-1" strike="noStrike" baseline="30000">
                <a:solidFill>
                  <a:srgbClr val="000000"/>
                </a:solidFill>
                <a:latin typeface="TinkerToy"/>
              </a:rPr>
              <a:t>2</a:t>
            </a: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 + bx + c   ble mae a yn bositi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Dangoswch ax</a:t>
            </a:r>
            <a:r>
              <a:rPr b="0" lang="en-GB" sz="10600" spc="-1" strike="noStrike" baseline="30000">
                <a:solidFill>
                  <a:srgbClr val="000000"/>
                </a:solidFill>
                <a:latin typeface="TinkerToy"/>
              </a:rPr>
              <a:t>2</a:t>
            </a:r>
            <a:r>
              <a:rPr b="0" lang="en-GB" sz="10600" spc="-1" strike="noStrike">
                <a:solidFill>
                  <a:srgbClr val="000000"/>
                </a:solidFill>
                <a:latin typeface="TinkerToy"/>
              </a:rPr>
              <a:t> + bx + c   ble mae a yn negatif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nkerToy"/>
              </a:rPr>
              <a:t>Brasluniwch y canlynol:</a:t>
            </a:r>
            <a:r>
              <a:rPr b="0" lang="en-GB" sz="7200" spc="-1" strike="noStrike">
                <a:solidFill>
                  <a:srgbClr val="000000"/>
                </a:solidFill>
                <a:latin typeface="TinkerToy"/>
              </a:rPr>
              <a:t>                Mae gan y gromlin yma a llinell syth gyda graddiant positif 2 man cyfarf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nkerToy"/>
              </a:rPr>
              <a:t>Brasluniwch y canlynol:</a:t>
            </a:r>
            <a:r>
              <a:rPr b="0" lang="en-GB" sz="7200" spc="-1" strike="noStrike">
                <a:solidFill>
                  <a:srgbClr val="000000"/>
                </a:solidFill>
                <a:latin typeface="TinkerToy"/>
              </a:rPr>
              <a:t>                Mae gan y gromlin yma a llinell syth gyda graddiant positif un man cyfarfod yn uni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nkerToy"/>
              </a:rPr>
              <a:t>Brasluniwch y canlynol:</a:t>
            </a:r>
            <a:r>
              <a:rPr b="0" lang="en-GB" sz="7200" spc="-1" strike="noStrike">
                <a:solidFill>
                  <a:srgbClr val="000000"/>
                </a:solidFill>
                <a:latin typeface="TinkerToy"/>
              </a:rPr>
              <a:t>                Nid oes gan y gromlin yma a llinell syth gyda graddiant positif yr un man cyfarf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0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nkerToy"/>
              </a:rPr>
              <a:t>Darganfyddwch nifer y pwyntiau croesdorri, os oes yna o gwbl, y linell    y = 7x + 5 a’r                gromlin y = x</a:t>
            </a:r>
            <a:r>
              <a:rPr b="0" lang="en-GB" sz="4800" spc="-1" strike="noStrike" baseline="30000">
                <a:solidFill>
                  <a:srgbClr val="000000"/>
                </a:solidFill>
                <a:latin typeface="TinkerToy"/>
              </a:rPr>
              <a:t>2</a:t>
            </a:r>
            <a:r>
              <a:rPr b="0" lang="en-GB" sz="4800" spc="-1" strike="noStrike">
                <a:solidFill>
                  <a:srgbClr val="000000"/>
                </a:solidFill>
                <a:latin typeface="TinkerToy"/>
              </a:rPr>
              <a:t> + 4x -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nkerToy"/>
              </a:rPr>
              <a:t>Os oes pwyntiau croesdorri, darganfyddwch cyfesurynnau’r pwynt/pwyntiau y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01:30Z</dcterms:created>
  <dc:creator>Betsan Wyn Thomas</dc:creator>
  <dc:description/>
  <dc:language>en-US</dc:language>
  <cp:lastModifiedBy>Betsan Wyn Thomas</cp:lastModifiedBy>
  <dcterms:modified xsi:type="dcterms:W3CDTF">2008-11-06T12:23:32Z</dcterms:modified>
  <cp:revision>3</cp:revision>
  <dc:subject/>
  <dc:title>Slide 1</dc:title>
</cp:coreProperties>
</file>